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8.wmf" ContentType="image/x-wmf"/>
  <Override PartName="/ppt/media/image13.png" ContentType="image/png"/>
  <Override PartName="/ppt/media/image12.wmf" ContentType="image/x-wmf"/>
  <Override PartName="/ppt/media/image7.wmf" ContentType="image/x-wmf"/>
  <Override PartName="/ppt/media/image20.jpeg" ContentType="image/jpeg"/>
  <Override PartName="/ppt/media/image11.wmf" ContentType="image/x-wmf"/>
  <Override PartName="/ppt/media/image17.jpeg" ContentType="image/jpeg"/>
  <Override PartName="/ppt/media/image6.wmf" ContentType="image/x-wmf"/>
  <Override PartName="/ppt/media/image10.wmf" ContentType="image/x-wmf"/>
  <Override PartName="/ppt/media/image5.wmf" ContentType="image/x-wmf"/>
  <Override PartName="/ppt/media/image28.wmf" ContentType="image/x-wmf"/>
  <Override PartName="/ppt/media/image3.wmf" ContentType="image/x-wmf"/>
  <Override PartName="/ppt/media/image26.wmf" ContentType="image/x-wmf"/>
  <Override PartName="/ppt/media/image24.png" ContentType="image/png"/>
  <Override PartName="/ppt/media/image23.wmf" ContentType="image/x-wmf"/>
  <Override PartName="/ppt/media/image22.png" ContentType="image/png"/>
  <Override PartName="/ppt/media/image18.jpeg" ContentType="image/jpeg"/>
  <Override PartName="/ppt/media/image21.wmf" ContentType="image/x-wmf"/>
  <Override PartName="/ppt/media/image1.jpeg" ContentType="image/jpeg"/>
  <Override PartName="/ppt/media/image19.png" ContentType="image/png"/>
  <Override PartName="/ppt/media/image16.wmf" ContentType="image/x-wmf"/>
  <Override PartName="/ppt/media/image15.png" ContentType="image/png"/>
  <Override PartName="/ppt/media/image14.wmf" ContentType="image/x-wmf"/>
  <Override PartName="/ppt/media/image4.wmf" ContentType="image/x-wmf"/>
  <Override PartName="/ppt/media/image27.wmf" ContentType="image/x-wmf"/>
  <Override PartName="/ppt/media/image2.jpeg" ContentType="image/jpeg"/>
  <Override PartName="/ppt/media/image2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A5461-0B68-4816-BFD1-E89CC42308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A5A74-1B2E-4804-B0A5-30E941EDE07A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025FD-2CE8-48F0-882E-B271BA88C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EA8DB-E908-48A9-B026-0F4A7D2DF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B2D37-7F9A-4AA4-9ED0-FA6BAF62A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A95FA-336D-4862-9ADF-614635E9E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CAF94-AE73-405F-8575-6B9872A00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B7878-1C06-47B9-B389-0080CC183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E0E12-3CFB-406F-B8C8-2A7F54A1E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27730-0813-4E2B-BE00-8E8F93562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C24AB-6966-422F-90BD-9DE376195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67DDB-E37D-4E47-A162-A8DCCB39E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385D1-F6DE-4D84-A87D-617D78153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FF3A4-A0EE-4163-9EED-03BE119EB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53970-0129-4ECB-AE74-CC886EA8F8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stopwatch.onlineclock.net/" TargetMode="External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wmf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6.wmf"/><Relationship Id="rId3" Type="http://schemas.openxmlformats.org/officeDocument/2006/relationships/image" Target="../media/image27.wmf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228600" y="228600"/>
            <a:ext cx="8686800" cy="2038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uesday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9" name=""/>
          <p:cNvSpPr/>
          <p:nvPr/>
        </p:nvSpPr>
        <p:spPr>
          <a:xfrm>
            <a:off x="2514600" y="5195880"/>
            <a:ext cx="46483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Times New Roman"/>
              </a:rPr>
              <a:t>5/4/1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62120" y="2438280"/>
            <a:ext cx="74674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ot Wheelin’ La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distance/time graphs a period of time when an object is not moving is shown 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6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7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horizontal 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vertical 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line goes back to the x-ax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line goes back to the y-ax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AnswerNow"/>
          <p:cNvGrpSpPr/>
          <p:nvPr/>
        </p:nvGrpSpPr>
        <p:grpSpPr>
          <a:xfrm>
            <a:off x="3460680" y="6286680"/>
            <a:ext cx="2222640" cy="444240"/>
            <a:chOff x="3460680" y="6286680"/>
            <a:chExt cx="2222640" cy="444240"/>
          </a:xfrm>
        </p:grpSpPr>
        <p:sp>
          <p:nvSpPr>
            <p:cNvPr id="120" name="ANShape"/>
            <p:cNvSpPr/>
            <p:nvPr/>
          </p:nvSpPr>
          <p:spPr>
            <a:xfrm>
              <a:off x="3460680" y="6286680"/>
              <a:ext cx="2222640" cy="4442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0000">
                    <a:alpha val="50196"/>
                  </a:srgbClr>
                </a:gs>
                <a:gs pos="100000">
                  <a:srgbClr val="8c3d91"/>
                </a:gs>
              </a:gsLst>
              <a:lin ang="5400000"/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ANText"/>
            <p:cNvSpPr/>
            <p:nvPr/>
          </p:nvSpPr>
          <p:spPr>
            <a:xfrm>
              <a:off x="3460680" y="6286680"/>
              <a:ext cx="222264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??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f an object speeds up, this is shown on a distance-time graph as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3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decrease in the slop of the 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ncrease along the x-ax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ncrease along the y-ax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increase in slope of the 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" name="AnswerNow"/>
          <p:cNvGrpSpPr/>
          <p:nvPr/>
        </p:nvGrpSpPr>
        <p:grpSpPr>
          <a:xfrm>
            <a:off x="3460680" y="6286680"/>
            <a:ext cx="2222640" cy="444240"/>
            <a:chOff x="3460680" y="6286680"/>
            <a:chExt cx="2222640" cy="444240"/>
          </a:xfrm>
        </p:grpSpPr>
        <p:sp>
          <p:nvSpPr>
            <p:cNvPr id="127" name="ANShape"/>
            <p:cNvSpPr/>
            <p:nvPr/>
          </p:nvSpPr>
          <p:spPr>
            <a:xfrm>
              <a:off x="3460680" y="6286680"/>
              <a:ext cx="2222640" cy="4442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0000">
                    <a:alpha val="50196"/>
                  </a:srgbClr>
                </a:gs>
                <a:gs pos="100000">
                  <a:srgbClr val="8c3d91"/>
                </a:gs>
              </a:gsLst>
              <a:lin ang="5400000"/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ANText"/>
            <p:cNvSpPr/>
            <p:nvPr/>
          </p:nvSpPr>
          <p:spPr>
            <a:xfrm>
              <a:off x="3460680" y="6286680"/>
              <a:ext cx="222264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??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an object starts to move back to where it came from this is shown on a distance-time graph 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horizontal 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vertical 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lope upwa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lope downwa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AnswerNow"/>
          <p:cNvGrpSpPr/>
          <p:nvPr/>
        </p:nvGrpSpPr>
        <p:grpSpPr>
          <a:xfrm>
            <a:off x="3460680" y="6286680"/>
            <a:ext cx="2222640" cy="444240"/>
            <a:chOff x="3460680" y="6286680"/>
            <a:chExt cx="2222640" cy="444240"/>
          </a:xfrm>
        </p:grpSpPr>
        <p:sp>
          <p:nvSpPr>
            <p:cNvPr id="134" name="ANShape"/>
            <p:cNvSpPr/>
            <p:nvPr/>
          </p:nvSpPr>
          <p:spPr>
            <a:xfrm>
              <a:off x="3460680" y="6286680"/>
              <a:ext cx="2222640" cy="4442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0000">
                    <a:alpha val="50196"/>
                  </a:srgbClr>
                </a:gs>
                <a:gs pos="100000">
                  <a:srgbClr val="8c3d91"/>
                </a:gs>
              </a:gsLst>
              <a:lin ang="5400000"/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ANText"/>
            <p:cNvSpPr/>
            <p:nvPr/>
          </p:nvSpPr>
          <p:spPr>
            <a:xfrm>
              <a:off x="3460680" y="6286680"/>
              <a:ext cx="222264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??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am Sco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127080" y="1666800"/>
          <a:ext cx="8889840" cy="4556160"/>
        </p:xfrm>
        <a:graphic>
          <a:graphicData uri="http://schemas.openxmlformats.org/drawingml/2006/table">
            <a:tbl>
              <a:tblPr/>
              <a:tblGrid>
                <a:gridCol w="1269720"/>
                <a:gridCol w="3175200"/>
                <a:gridCol w="1269720"/>
                <a:gridCol w="31752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26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se this graph for the next 2 questions…</a:t>
            </a:r>
            <a:br>
              <a:rPr sz="2800"/>
            </a:br>
            <a:br>
              <a:rPr sz="12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ambulance, a car, and a bicycle approach a stop light.  Remember, ambulances are allowed to go through red lights carefully, and assume the car is travel at a higher speed than the bicycle at the star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2362320" y="2895480"/>
            <a:ext cx="3882240" cy="3569040"/>
            <a:chOff x="2362320" y="2895480"/>
            <a:chExt cx="3882240" cy="3569040"/>
          </a:xfrm>
        </p:grpSpPr>
        <p:grpSp>
          <p:nvGrpSpPr>
            <p:cNvPr id="140" name=""/>
            <p:cNvGrpSpPr/>
            <p:nvPr/>
          </p:nvGrpSpPr>
          <p:grpSpPr>
            <a:xfrm>
              <a:off x="2362320" y="2895480"/>
              <a:ext cx="3882240" cy="3569040"/>
              <a:chOff x="2362320" y="2895480"/>
              <a:chExt cx="3882240" cy="3569040"/>
            </a:xfrm>
          </p:grpSpPr>
          <p:sp>
            <p:nvSpPr>
              <p:cNvPr id="141" name=""/>
              <p:cNvSpPr/>
              <p:nvPr/>
            </p:nvSpPr>
            <p:spPr>
              <a:xfrm>
                <a:off x="2922840" y="2895480"/>
                <a:ext cx="0" cy="343728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 flipH="1">
                <a:off x="2464200" y="6103440"/>
                <a:ext cx="3780360" cy="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3381120" y="6096240"/>
                <a:ext cx="2290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Time (s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 rot="16200000">
                <a:off x="1401840" y="4232160"/>
                <a:ext cx="2289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Distance (m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5" name=""/>
            <p:cNvSpPr/>
            <p:nvPr/>
          </p:nvSpPr>
          <p:spPr>
            <a:xfrm flipV="1">
              <a:off x="2955960" y="3809880"/>
              <a:ext cx="1158840" cy="2286000"/>
            </a:xfrm>
            <a:prstGeom prst="line">
              <a:avLst/>
            </a:prstGeom>
            <a:ln w="57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 flipV="1">
              <a:off x="2955960" y="4952520"/>
              <a:ext cx="777960" cy="1143000"/>
            </a:xfrm>
            <a:prstGeom prst="line">
              <a:avLst/>
            </a:prstGeom>
            <a:ln w="57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 flipV="1">
              <a:off x="2955960" y="4647960"/>
              <a:ext cx="2454120" cy="1447560"/>
            </a:xfrm>
            <a:prstGeom prst="line">
              <a:avLst/>
            </a:prstGeom>
            <a:ln w="57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394240" y="4648320"/>
              <a:ext cx="625680" cy="0"/>
            </a:xfrm>
            <a:prstGeom prst="line">
              <a:avLst/>
            </a:prstGeom>
            <a:ln w="57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 flipV="1">
              <a:off x="3718080" y="4648320"/>
              <a:ext cx="1082520" cy="304560"/>
            </a:xfrm>
            <a:prstGeom prst="line">
              <a:avLst/>
            </a:prstGeom>
            <a:ln w="57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784760" y="4648320"/>
              <a:ext cx="625320" cy="0"/>
            </a:xfrm>
            <a:prstGeom prst="line">
              <a:avLst/>
            </a:prstGeom>
            <a:ln w="57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 flipV="1">
              <a:off x="4114800" y="2895480"/>
              <a:ext cx="1905120" cy="914400"/>
            </a:xfrm>
            <a:prstGeom prst="line">
              <a:avLst/>
            </a:prstGeom>
            <a:ln w="57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962520" y="3429000"/>
              <a:ext cx="304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962520" y="4510080"/>
              <a:ext cx="304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962520" y="5029200"/>
              <a:ext cx="304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ich answer correctly describes the lin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e 1 is the car, line 2 the bicycle, and line 3 the ambul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e 3 is the car, line 2 is the bicycle, and line 1 the ambul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e 2 is the car, line 1 the bicycle, and line 3 the ambul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e 2 is the car, line 3 the bicycle, and line 1 the ambul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5029200" y="1828800"/>
            <a:ext cx="3882240" cy="3569040"/>
            <a:chOff x="5029200" y="1828800"/>
            <a:chExt cx="3882240" cy="3569040"/>
          </a:xfrm>
        </p:grpSpPr>
        <p:grpSp>
          <p:nvGrpSpPr>
            <p:cNvPr id="158" name=""/>
            <p:cNvGrpSpPr/>
            <p:nvPr/>
          </p:nvGrpSpPr>
          <p:grpSpPr>
            <a:xfrm>
              <a:off x="5029200" y="1828800"/>
              <a:ext cx="3882240" cy="3569040"/>
              <a:chOff x="5029200" y="1828800"/>
              <a:chExt cx="3882240" cy="3569040"/>
            </a:xfrm>
          </p:grpSpPr>
          <p:sp>
            <p:nvSpPr>
              <p:cNvPr id="159" name=""/>
              <p:cNvSpPr/>
              <p:nvPr/>
            </p:nvSpPr>
            <p:spPr>
              <a:xfrm>
                <a:off x="5589720" y="1828800"/>
                <a:ext cx="0" cy="343728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>
                <a:off x="5131080" y="5036760"/>
                <a:ext cx="3780360" cy="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6048000" y="5029560"/>
                <a:ext cx="2290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Time (s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rot="16200000">
                <a:off x="4068720" y="3165480"/>
                <a:ext cx="2289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Distance (m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3" name=""/>
            <p:cNvSpPr/>
            <p:nvPr/>
          </p:nvSpPr>
          <p:spPr>
            <a:xfrm flipV="1">
              <a:off x="5622840" y="2743200"/>
              <a:ext cx="1158840" cy="2286000"/>
            </a:xfrm>
            <a:prstGeom prst="line">
              <a:avLst/>
            </a:prstGeom>
            <a:ln w="57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 flipV="1">
              <a:off x="5622840" y="3885840"/>
              <a:ext cx="777960" cy="1143000"/>
            </a:xfrm>
            <a:prstGeom prst="line">
              <a:avLst/>
            </a:prstGeom>
            <a:ln w="57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 flipV="1">
              <a:off x="5622840" y="3581280"/>
              <a:ext cx="2454120" cy="1447560"/>
            </a:xfrm>
            <a:prstGeom prst="line">
              <a:avLst/>
            </a:prstGeom>
            <a:ln w="57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061120" y="3581640"/>
              <a:ext cx="625680" cy="0"/>
            </a:xfrm>
            <a:prstGeom prst="line">
              <a:avLst/>
            </a:prstGeom>
            <a:ln w="57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 flipV="1">
              <a:off x="6384960" y="3581640"/>
              <a:ext cx="1082520" cy="304560"/>
            </a:xfrm>
            <a:prstGeom prst="line">
              <a:avLst/>
            </a:prstGeom>
            <a:ln w="57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451640" y="3581640"/>
              <a:ext cx="625320" cy="0"/>
            </a:xfrm>
            <a:prstGeom prst="line">
              <a:avLst/>
            </a:prstGeom>
            <a:ln w="57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6781680" y="1828800"/>
              <a:ext cx="1905120" cy="914400"/>
            </a:xfrm>
            <a:prstGeom prst="line">
              <a:avLst/>
            </a:prstGeom>
            <a:ln w="57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629400" y="2362320"/>
              <a:ext cx="304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629400" y="3443400"/>
              <a:ext cx="304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629400" y="3962520"/>
              <a:ext cx="304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73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4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5" name="AnswerNow"/>
          <p:cNvGrpSpPr/>
          <p:nvPr/>
        </p:nvGrpSpPr>
        <p:grpSpPr>
          <a:xfrm>
            <a:off x="2044800" y="6286680"/>
            <a:ext cx="2222280" cy="444240"/>
            <a:chOff x="2044800" y="6286680"/>
            <a:chExt cx="2222280" cy="444240"/>
          </a:xfrm>
        </p:grpSpPr>
        <p:sp>
          <p:nvSpPr>
            <p:cNvPr id="176" name="ANShape"/>
            <p:cNvSpPr/>
            <p:nvPr/>
          </p:nvSpPr>
          <p:spPr>
            <a:xfrm>
              <a:off x="2044800" y="6286680"/>
              <a:ext cx="2222280" cy="4442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0000">
                    <a:alpha val="50196"/>
                  </a:srgbClr>
                </a:gs>
                <a:gs pos="100000">
                  <a:srgbClr val="8c3d91"/>
                </a:gs>
              </a:gsLst>
              <a:lin ang="5400000"/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ANText"/>
            <p:cNvSpPr/>
            <p:nvPr/>
          </p:nvSpPr>
          <p:spPr>
            <a:xfrm>
              <a:off x="2044800" y="6286680"/>
              <a:ext cx="222228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??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ill looking at the graph of vehicles arriving at the traffic light, which of the following statements is correc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ar is the first vehicle to st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ne of the vehicles st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bicycle travels further than the c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ar travels at the highest spe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4956120" y="1994040"/>
            <a:ext cx="3882240" cy="3569040"/>
            <a:chOff x="4956120" y="1994040"/>
            <a:chExt cx="3882240" cy="3569040"/>
          </a:xfrm>
        </p:grpSpPr>
        <p:grpSp>
          <p:nvGrpSpPr>
            <p:cNvPr id="181" name=""/>
            <p:cNvGrpSpPr/>
            <p:nvPr/>
          </p:nvGrpSpPr>
          <p:grpSpPr>
            <a:xfrm>
              <a:off x="4956120" y="1994040"/>
              <a:ext cx="3882240" cy="3569040"/>
              <a:chOff x="4956120" y="1994040"/>
              <a:chExt cx="3882240" cy="3569040"/>
            </a:xfrm>
          </p:grpSpPr>
          <p:sp>
            <p:nvSpPr>
              <p:cNvPr id="182" name=""/>
              <p:cNvSpPr/>
              <p:nvPr/>
            </p:nvSpPr>
            <p:spPr>
              <a:xfrm>
                <a:off x="5516640" y="1994040"/>
                <a:ext cx="0" cy="343728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 flipH="1">
                <a:off x="5058000" y="5202000"/>
                <a:ext cx="3780360" cy="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5974920" y="5194800"/>
                <a:ext cx="2290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Time (s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 rot="16200000">
                <a:off x="3995640" y="3330720"/>
                <a:ext cx="2289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Distance (m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6" name=""/>
            <p:cNvSpPr/>
            <p:nvPr/>
          </p:nvSpPr>
          <p:spPr>
            <a:xfrm flipV="1">
              <a:off x="5549760" y="2908440"/>
              <a:ext cx="1158840" cy="2286000"/>
            </a:xfrm>
            <a:prstGeom prst="line">
              <a:avLst/>
            </a:prstGeom>
            <a:ln w="57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V="1">
              <a:off x="5549760" y="4051080"/>
              <a:ext cx="777960" cy="1143000"/>
            </a:xfrm>
            <a:prstGeom prst="line">
              <a:avLst/>
            </a:prstGeom>
            <a:ln w="57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5549760" y="3746520"/>
              <a:ext cx="2454120" cy="1447560"/>
            </a:xfrm>
            <a:prstGeom prst="line">
              <a:avLst/>
            </a:prstGeom>
            <a:ln w="57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988040" y="3746880"/>
              <a:ext cx="625680" cy="0"/>
            </a:xfrm>
            <a:prstGeom prst="line">
              <a:avLst/>
            </a:prstGeom>
            <a:ln w="57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flipV="1">
              <a:off x="6311880" y="3746880"/>
              <a:ext cx="1082520" cy="304560"/>
            </a:xfrm>
            <a:prstGeom prst="line">
              <a:avLst/>
            </a:prstGeom>
            <a:ln w="57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378560" y="3746880"/>
              <a:ext cx="625320" cy="0"/>
            </a:xfrm>
            <a:prstGeom prst="line">
              <a:avLst/>
            </a:prstGeom>
            <a:ln w="57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flipV="1">
              <a:off x="6708600" y="1994040"/>
              <a:ext cx="1905120" cy="914400"/>
            </a:xfrm>
            <a:prstGeom prst="line">
              <a:avLst/>
            </a:prstGeom>
            <a:ln w="57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556320" y="2527560"/>
              <a:ext cx="304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556320" y="3608640"/>
              <a:ext cx="304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556320" y="4127760"/>
              <a:ext cx="304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96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7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98" name="AnswerNow"/>
          <p:cNvGrpSpPr/>
          <p:nvPr/>
        </p:nvGrpSpPr>
        <p:grpSpPr>
          <a:xfrm>
            <a:off x="2044800" y="6286680"/>
            <a:ext cx="2222280" cy="444240"/>
            <a:chOff x="2044800" y="6286680"/>
            <a:chExt cx="2222280" cy="444240"/>
          </a:xfrm>
        </p:grpSpPr>
        <p:sp>
          <p:nvSpPr>
            <p:cNvPr id="199" name="ANShape"/>
            <p:cNvSpPr/>
            <p:nvPr/>
          </p:nvSpPr>
          <p:spPr>
            <a:xfrm>
              <a:off x="2044800" y="6286680"/>
              <a:ext cx="2222280" cy="4442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0000">
                    <a:alpha val="50196"/>
                  </a:srgbClr>
                </a:gs>
                <a:gs pos="100000">
                  <a:srgbClr val="8c3d91"/>
                </a:gs>
              </a:gsLst>
              <a:lin ang="5400000"/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ANText"/>
            <p:cNvSpPr/>
            <p:nvPr/>
          </p:nvSpPr>
          <p:spPr>
            <a:xfrm>
              <a:off x="2044800" y="6286680"/>
              <a:ext cx="222228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??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distance-time graph shows how an object moves for 5 seconds.  Which of the following statements is correc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object is moving for the whole of the 5 seco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object moves a total distance of 10 me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object is stationary for 3 seco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objects final speed is 2 m/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34011" t="34003" r="39376" b="36001"/>
          <a:stretch/>
        </p:blipFill>
        <p:spPr>
          <a:xfrm>
            <a:off x="4419720" y="1371600"/>
            <a:ext cx="4572000" cy="3220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04" name="TPChart"/>
          <p:cNvGraphicFramePr/>
          <p:nvPr/>
        </p:nvGraphicFramePr>
        <p:xfrm>
          <a:off x="4419720" y="1371600"/>
          <a:ext cx="4572000" cy="542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5" name="TPChart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419720" y="1371600"/>
                    <a:ext cx="4572000" cy="542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06" name="AnswerNow"/>
          <p:cNvGrpSpPr/>
          <p:nvPr/>
        </p:nvGrpSpPr>
        <p:grpSpPr>
          <a:xfrm>
            <a:off x="2133720" y="6286680"/>
            <a:ext cx="2222280" cy="444240"/>
            <a:chOff x="2133720" y="6286680"/>
            <a:chExt cx="2222280" cy="444240"/>
          </a:xfrm>
        </p:grpSpPr>
        <p:sp>
          <p:nvSpPr>
            <p:cNvPr id="207" name="ANShape"/>
            <p:cNvSpPr/>
            <p:nvPr/>
          </p:nvSpPr>
          <p:spPr>
            <a:xfrm>
              <a:off x="2133720" y="6286680"/>
              <a:ext cx="2222280" cy="4442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0000">
                    <a:alpha val="50196"/>
                  </a:srgbClr>
                </a:gs>
                <a:gs pos="100000">
                  <a:srgbClr val="8c3d91"/>
                </a:gs>
              </a:gsLst>
              <a:lin ang="5400000"/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ANText"/>
            <p:cNvSpPr/>
            <p:nvPr/>
          </p:nvSpPr>
          <p:spPr>
            <a:xfrm>
              <a:off x="2133720" y="6286680"/>
              <a:ext cx="222228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??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distance-time graph shows how an object moves for 5 seconds.  Which of the following statements is correc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object moves forwards for a total of 3 seco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object moves a total distance of 10 me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object travels fastest between 4 and 5 seco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object moves backwards between 3 and 4 seco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rcRect l="33752" t="34003" r="39376" b="36001"/>
          <a:stretch/>
        </p:blipFill>
        <p:spPr>
          <a:xfrm>
            <a:off x="4419720" y="1371600"/>
            <a:ext cx="4495680" cy="3137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2" name="TPChart"/>
          <p:cNvGraphicFramePr/>
          <p:nvPr/>
        </p:nvGraphicFramePr>
        <p:xfrm>
          <a:off x="4419720" y="1371600"/>
          <a:ext cx="4572000" cy="542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13" name="TPChart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419720" y="1371600"/>
                    <a:ext cx="4572000" cy="542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14" name="AnswerNow"/>
          <p:cNvGrpSpPr/>
          <p:nvPr/>
        </p:nvGrpSpPr>
        <p:grpSpPr>
          <a:xfrm>
            <a:off x="1981080" y="6286680"/>
            <a:ext cx="2222640" cy="444240"/>
            <a:chOff x="1981080" y="6286680"/>
            <a:chExt cx="2222640" cy="444240"/>
          </a:xfrm>
        </p:grpSpPr>
        <p:sp>
          <p:nvSpPr>
            <p:cNvPr id="215" name="ANShape"/>
            <p:cNvSpPr/>
            <p:nvPr/>
          </p:nvSpPr>
          <p:spPr>
            <a:xfrm>
              <a:off x="1981080" y="6286680"/>
              <a:ext cx="2222640" cy="4442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0000">
                    <a:alpha val="50196"/>
                  </a:srgbClr>
                </a:gs>
                <a:gs pos="100000">
                  <a:srgbClr val="8c3d91"/>
                </a:gs>
              </a:gsLst>
              <a:lin ang="5400000"/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ANText"/>
            <p:cNvSpPr/>
            <p:nvPr/>
          </p:nvSpPr>
          <p:spPr>
            <a:xfrm>
              <a:off x="1981080" y="6286680"/>
              <a:ext cx="222264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??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am Sco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127080" y="1666800"/>
          <a:ext cx="8889840" cy="4556160"/>
        </p:xfrm>
        <a:graphic>
          <a:graphicData uri="http://schemas.openxmlformats.org/drawingml/2006/table">
            <a:tbl>
              <a:tblPr/>
              <a:tblGrid>
                <a:gridCol w="1269720"/>
                <a:gridCol w="3175200"/>
                <a:gridCol w="1269720"/>
                <a:gridCol w="31752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ass Project &amp; 4</a:t>
            </a:r>
            <a:r>
              <a:rPr b="0" lang="en-US" sz="4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Quarter Projec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33520" y="1538280"/>
            <a:ext cx="3871800" cy="38862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 txBox="1"/>
          <p:nvPr/>
        </p:nvSpPr>
        <p:spPr>
          <a:xfrm>
            <a:off x="1104840" y="5638680"/>
            <a:ext cx="26290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Mousetrap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Race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5410080" y="5638680"/>
            <a:ext cx="26290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RGM-in-a-Box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"Magic 8-Ball"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rcRect l="12461" t="1962" r="23708" b="3921"/>
          <a:stretch/>
        </p:blipFill>
        <p:spPr>
          <a:xfrm>
            <a:off x="4876920" y="1523880"/>
            <a:ext cx="3733560" cy="3810240"/>
          </a:xfrm>
          <a:prstGeom prst="rect">
            <a:avLst/>
          </a:prstGeom>
          <a:ln w="0">
            <a:noFill/>
          </a:ln>
        </p:spPr>
      </p:pic>
      <p:grpSp>
        <p:nvGrpSpPr>
          <p:cNvPr id="56" name=""/>
          <p:cNvGrpSpPr/>
          <p:nvPr/>
        </p:nvGrpSpPr>
        <p:grpSpPr>
          <a:xfrm>
            <a:off x="76320" y="76320"/>
            <a:ext cx="2895120" cy="635040"/>
            <a:chOff x="76320" y="76320"/>
            <a:chExt cx="2895120" cy="635040"/>
          </a:xfrm>
        </p:grpSpPr>
        <p:pic>
          <p:nvPicPr>
            <p:cNvPr id="57" name="" descr=""/>
            <p:cNvPicPr/>
            <p:nvPr/>
          </p:nvPicPr>
          <p:blipFill>
            <a:blip r:embed="rId3"/>
            <a:stretch/>
          </p:blipFill>
          <p:spPr>
            <a:xfrm>
              <a:off x="76320" y="76320"/>
              <a:ext cx="668160" cy="63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"/>
            <p:cNvSpPr txBox="1"/>
            <p:nvPr/>
          </p:nvSpPr>
          <p:spPr>
            <a:xfrm>
              <a:off x="761040" y="153360"/>
              <a:ext cx="2210400" cy="507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200"/>
                      </a:gs>
                      <a:gs pos="100000">
                        <a:srgbClr val="4d0808"/>
                      </a:gs>
                    </a:gsLst>
                    <a:lin ang="5400000"/>
                  </a:gradFill>
                  <a:latin typeface="Broadway"/>
                </a:rPr>
                <a:t>Warm-Up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latin typeface="Broadway"/>
                <a:ea typeface="Broadway"/>
              </a:endParaRPr>
            </a:p>
          </p:txBody>
        </p:sp>
      </p:grpSp>
      <p:sp>
        <p:nvSpPr>
          <p:cNvPr id="59" name=""/>
          <p:cNvSpPr/>
          <p:nvPr/>
        </p:nvSpPr>
        <p:spPr>
          <a:xfrm>
            <a:off x="685800" y="2209680"/>
            <a:ext cx="7696080" cy="106884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Y QUESTIONS ABOUT EITHER OF OUR UPCOMING PROJECTS?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rticipant Sco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0" name=""/>
          <p:cNvGraphicFramePr/>
          <p:nvPr/>
        </p:nvGraphicFramePr>
        <p:xfrm>
          <a:off x="127080" y="1666800"/>
          <a:ext cx="8889840" cy="4556160"/>
        </p:xfrm>
        <a:graphic>
          <a:graphicData uri="http://schemas.openxmlformats.org/drawingml/2006/table">
            <a:tbl>
              <a:tblPr/>
              <a:tblGrid>
                <a:gridCol w="1269720"/>
                <a:gridCol w="3175200"/>
                <a:gridCol w="1269720"/>
                <a:gridCol w="31752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lculating Speed Re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speed of the marble traveling down the marble ru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do we need to know to figure it ou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this an average speed or instantaneous spe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 you know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rcRect l="28494" t="16669" r="31022" b="20000"/>
          <a:stretch/>
        </p:blipFill>
        <p:spPr>
          <a:xfrm>
            <a:off x="152280" y="152280"/>
            <a:ext cx="1027080" cy="121932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095880" y="4570560"/>
            <a:ext cx="3048120" cy="22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114480" y="609480"/>
            <a:ext cx="8800920" cy="586764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 txBox="1"/>
          <p:nvPr/>
        </p:nvSpPr>
        <p:spPr>
          <a:xfrm>
            <a:off x="1981080" y="4267080"/>
            <a:ext cx="804960" cy="64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40 m/s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2819520" y="2666880"/>
            <a:ext cx="804600" cy="64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10 m/s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5029200" y="3809880"/>
            <a:ext cx="804960" cy="64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60 m/s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419720" y="2286000"/>
            <a:ext cx="804600" cy="64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0 m/s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6324480" y="2438280"/>
            <a:ext cx="804960" cy="64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100 m/s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7772400" y="380880"/>
            <a:ext cx="804960" cy="64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0 m/s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76320" y="38160"/>
            <a:ext cx="7467480" cy="799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Speed Review:  How fast is the car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going in each segment?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"/>
              </a:rPr>
              <a:t>Hot Wheelin’ La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oose your vehic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swer the questions on your lab workshe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ce your vehic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llow the procedure exactly – every trial needs a racer, timekeeper, and jud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e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te table on lab worksheet and make calculations to determine your vehicle’s spe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ed line-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 your vehicles speed on a post-it note and put them in order from fastest to slowest on the ledge in the front of the roo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133200" y="133200"/>
            <a:ext cx="1695600" cy="16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1143000" y="76320"/>
            <a:ext cx="6934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cc33"/>
                </a:solidFill>
                <a:latin typeface="Times New Roman"/>
              </a:rPr>
              <a:t>HOMEWORK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90440" y="2057040"/>
            <a:ext cx="868680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Distance-Time Graph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(Complete back of Review Worksheet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200400" y="4876920"/>
            <a:ext cx="2712960" cy="144756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/>
          <p:nvPr/>
        </p:nvSpPr>
        <p:spPr>
          <a:xfrm>
            <a:off x="0" y="63244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Alway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opy daily </a:t>
            </a:r>
            <a:r>
              <a:rPr b="0" lang="en-US" sz="2400" spc="-1" strike="noStrike">
                <a:solidFill>
                  <a:srgbClr val="33cc33"/>
                </a:solidFill>
                <a:latin typeface="Tahoma"/>
              </a:rPr>
              <a:t>homewor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nto your agen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52280" y="1295280"/>
            <a:ext cx="8763120" cy="32767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1143000" y="76320"/>
            <a:ext cx="6934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cc33"/>
                </a:solidFill>
                <a:latin typeface="Times New Roman"/>
              </a:rPr>
              <a:t>HOMEWORK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90440" y="2010240"/>
            <a:ext cx="8686800" cy="18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Write a Motion Story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(PART I – Guidelines on Worksheet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3200400" y="4876920"/>
            <a:ext cx="2712960" cy="144756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/>
          <p:nvPr/>
        </p:nvSpPr>
        <p:spPr>
          <a:xfrm>
            <a:off x="0" y="63244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Alway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opy daily </a:t>
            </a:r>
            <a:r>
              <a:rPr b="0" lang="en-US" sz="2400" spc="-1" strike="noStrike">
                <a:solidFill>
                  <a:srgbClr val="33cc33"/>
                </a:solidFill>
                <a:latin typeface="Tahoma"/>
              </a:rPr>
              <a:t>homewor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nto your agen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52280" y="1295280"/>
            <a:ext cx="8763120" cy="32767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838080" y="1055520"/>
            <a:ext cx="2824200" cy="517536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2"/>
          <a:srcRect l="0" t="0" r="0" b="32974"/>
          <a:stretch/>
        </p:blipFill>
        <p:spPr>
          <a:xfrm>
            <a:off x="4267080" y="790560"/>
            <a:ext cx="2868840" cy="371808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5943600" y="0"/>
            <a:ext cx="32004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: 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ass: 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176040" y="152280"/>
            <a:ext cx="56912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Distance-Time Graph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50" name=""/>
          <p:cNvSpPr/>
          <p:nvPr/>
        </p:nvSpPr>
        <p:spPr>
          <a:xfrm>
            <a:off x="152280" y="1353960"/>
            <a:ext cx="1371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 upward slope tells us an object is moving awa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28600" y="3335400"/>
            <a:ext cx="1371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 downward slope tells us the object is moving close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828800" y="762120"/>
            <a:ext cx="1828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 straight line tells us an object is moving at a constant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002200" y="685800"/>
            <a:ext cx="1905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 curved line tells us an object is accelerating or deceleratin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6320" y="4906800"/>
            <a:ext cx="15238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e horizontal line in the middle here tells us the object stopped moving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" descr="graph"/>
          <p:cNvPicPr/>
          <p:nvPr/>
        </p:nvPicPr>
        <p:blipFill>
          <a:blip r:embed="rId3"/>
          <a:stretch/>
        </p:blipFill>
        <p:spPr>
          <a:xfrm>
            <a:off x="4724280" y="4432320"/>
            <a:ext cx="2057400" cy="164628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/>
          <p:nvPr/>
        </p:nvSpPr>
        <p:spPr>
          <a:xfrm>
            <a:off x="6629400" y="1308240"/>
            <a:ext cx="1905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is object is moving away and speeding up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629400" y="2908440"/>
            <a:ext cx="1905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is object is moving closer and speeding up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6629400" y="4905360"/>
            <a:ext cx="1905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is object is moving closer and slowing dow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0" y="6064200"/>
            <a:ext cx="91440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13716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e direction the line is heading determines whether an object is coming closer or moving awa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e slope of the line tells you how fast the object is moving (steeper = faster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 curved line indicates acceleration or deceler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" descr=""/>
          <p:cNvPicPr/>
          <p:nvPr/>
        </p:nvPicPr>
        <p:blipFill>
          <a:blip r:embed="rId1"/>
          <a:srcRect l="5002" t="34372" r="20002" b="0"/>
          <a:stretch/>
        </p:blipFill>
        <p:spPr>
          <a:xfrm>
            <a:off x="3352680" y="4724280"/>
            <a:ext cx="5715000" cy="175284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rcRect l="0" t="25443" r="13337" b="0"/>
          <a:stretch/>
        </p:blipFill>
        <p:spPr>
          <a:xfrm>
            <a:off x="3124080" y="2666880"/>
            <a:ext cx="5867640" cy="160020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3"/>
          <a:srcRect l="0" t="45659" r="9374" b="0"/>
          <a:stretch/>
        </p:blipFill>
        <p:spPr>
          <a:xfrm>
            <a:off x="3276720" y="762120"/>
            <a:ext cx="5867280" cy="1523880"/>
          </a:xfrm>
          <a:prstGeom prst="rect">
            <a:avLst/>
          </a:prstGeom>
          <a:ln w="0">
            <a:noFill/>
          </a:ln>
        </p:spPr>
      </p:pic>
      <p:sp>
        <p:nvSpPr>
          <p:cNvPr id="263" name=""/>
          <p:cNvSpPr/>
          <p:nvPr/>
        </p:nvSpPr>
        <p:spPr>
          <a:xfrm>
            <a:off x="76320" y="4699080"/>
            <a:ext cx="335268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3.  The price of a certain CD varied over a period of time. It started high and remained the same for a period of time. Then it had a steady decrease until it reached an all time low, where it stayed the same for a period of time. In the end, the stock rose fast to a moderate price, where it remained for the remaining tim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76320" y="2743200"/>
            <a:ext cx="304776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 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he post office charges $.37 for any mail up to an ounce in weight. After that the charge is $.23 for each additional ounce or part of an ounce. For instance, if it weights 1.1 ounces or 1.9 ounces, it will cost the same, $.60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76320" y="507960"/>
            <a:ext cx="320040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effery left his home headed toward the school. He started out at a steady moderate pace until he got to a red light. While stopped at the light, he realized that he had forgotten his math homework. He turned around and headed back home at a faster pace. Then he drove to school at a fast pace without stopping on the wa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ircle the graph that best matches each scenario belo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7" name=""/>
          <p:cNvGrpSpPr/>
          <p:nvPr/>
        </p:nvGrpSpPr>
        <p:grpSpPr>
          <a:xfrm>
            <a:off x="4800600" y="1523880"/>
            <a:ext cx="4038480" cy="3733920"/>
            <a:chOff x="4800600" y="1523880"/>
            <a:chExt cx="4038480" cy="3733920"/>
          </a:xfrm>
        </p:grpSpPr>
        <p:sp>
          <p:nvSpPr>
            <p:cNvPr id="268" name=""/>
            <p:cNvSpPr/>
            <p:nvPr/>
          </p:nvSpPr>
          <p:spPr>
            <a:xfrm>
              <a:off x="4800600" y="1523880"/>
              <a:ext cx="4038480" cy="3733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9" name=""/>
            <p:cNvGrpSpPr/>
            <p:nvPr/>
          </p:nvGrpSpPr>
          <p:grpSpPr>
            <a:xfrm>
              <a:off x="4954680" y="1676520"/>
              <a:ext cx="3655080" cy="3381120"/>
              <a:chOff x="4954680" y="1676520"/>
              <a:chExt cx="3655080" cy="3381120"/>
            </a:xfrm>
          </p:grpSpPr>
          <p:sp>
            <p:nvSpPr>
              <p:cNvPr id="270" name=""/>
              <p:cNvSpPr/>
              <p:nvPr/>
            </p:nvSpPr>
            <p:spPr>
              <a:xfrm>
                <a:off x="5482440" y="1676520"/>
                <a:ext cx="0" cy="323568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 flipH="1">
                <a:off x="5050440" y="4696200"/>
                <a:ext cx="3559320" cy="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5914080" y="4689360"/>
                <a:ext cx="2156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Time (s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16200000">
                <a:off x="4061160" y="2924280"/>
                <a:ext cx="2154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Distance (m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4" name=""/>
            <p:cNvSpPr/>
            <p:nvPr/>
          </p:nvSpPr>
          <p:spPr>
            <a:xfrm flipV="1">
              <a:off x="6237360" y="1787400"/>
              <a:ext cx="1077840" cy="2479680"/>
            </a:xfrm>
            <a:prstGeom prst="line">
              <a:avLst/>
            </a:prstGeom>
            <a:ln w="57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75" name="TPChart"/>
          <p:cNvGraphicFramePr/>
          <p:nvPr/>
        </p:nvGraphicFramePr>
        <p:xfrm>
          <a:off x="4572000" y="1600200"/>
          <a:ext cx="4572000" cy="5257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6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1600200"/>
                    <a:ext cx="4572000" cy="525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is the object doing according to the graph below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8" name="ResponseCounter"/>
          <p:cNvGrpSpPr/>
          <p:nvPr/>
        </p:nvGrpSpPr>
        <p:grpSpPr>
          <a:xfrm>
            <a:off x="127080" y="1308240"/>
            <a:ext cx="1511280" cy="5422320"/>
            <a:chOff x="127080" y="1308240"/>
            <a:chExt cx="1511280" cy="5422320"/>
          </a:xfrm>
        </p:grpSpPr>
        <p:sp>
          <p:nvSpPr>
            <p:cNvPr id="279" name="RCPole"/>
            <p:cNvSpPr/>
            <p:nvPr/>
          </p:nvSpPr>
          <p:spPr>
            <a:xfrm>
              <a:off x="317520" y="1523880"/>
              <a:ext cx="0" cy="507960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RCFlag"/>
            <p:cNvSpPr/>
            <p:nvPr/>
          </p:nvSpPr>
          <p:spPr>
            <a:xfrm>
              <a:off x="368280" y="5841720"/>
              <a:ext cx="1270080" cy="761760"/>
            </a:xfrm>
            <a:custGeom>
              <a:avLst/>
              <a:gdLst>
                <a:gd name="textAreaLeft" fmla="*/ 0 w 1270080"/>
                <a:gd name="textAreaRight" fmla="*/ 1270440 w 1270080"/>
                <a:gd name="textAreaTop" fmla="*/ 98640 h 761760"/>
                <a:gd name="textAreaBottom" fmla="*/ 663120 h 761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400"/>
                  </a:moveTo>
                  <a:cubicBezTo>
                    <a:pt x="7200" y="-3560"/>
                    <a:pt x="14400" y="6360"/>
                    <a:pt x="21600" y="1400"/>
                  </a:cubicBezTo>
                  <a:lnTo>
                    <a:pt x="21600" y="20200"/>
                  </a:lnTo>
                  <a:cubicBezTo>
                    <a:pt x="14400" y="25160"/>
                    <a:pt x="7200" y="15240"/>
                    <a:pt x="0" y="20200"/>
                  </a:cubicBezTo>
                  <a:close/>
                </a:path>
              </a:pathLst>
            </a:custGeom>
            <a:solidFill>
              <a:srgbClr val="bbe0e3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RCTop"/>
            <p:cNvSpPr/>
            <p:nvPr/>
          </p:nvSpPr>
          <p:spPr>
            <a:xfrm>
              <a:off x="127080" y="1308240"/>
              <a:ext cx="381240" cy="253800"/>
            </a:xfrm>
            <a:prstGeom prst="ellipse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ffffff"/>
                  </a:solidFill>
                  <a:latin typeface="Tahoma"/>
                </a:rPr>
                <a:t>26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RCBottom"/>
            <p:cNvSpPr/>
            <p:nvPr/>
          </p:nvSpPr>
          <p:spPr>
            <a:xfrm>
              <a:off x="127080" y="6603840"/>
              <a:ext cx="406440" cy="12672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952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ving quickly aw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ving slowly aw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ving quickly clos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ving slowly aw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 mov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4" name="AnswerNow"/>
          <p:cNvGrpSpPr/>
          <p:nvPr/>
        </p:nvGrpSpPr>
        <p:grpSpPr>
          <a:xfrm>
            <a:off x="3778200" y="5524560"/>
            <a:ext cx="1587600" cy="952560"/>
            <a:chOff x="3778200" y="5524560"/>
            <a:chExt cx="1587600" cy="952560"/>
          </a:xfrm>
        </p:grpSpPr>
        <p:sp>
          <p:nvSpPr>
            <p:cNvPr id="285" name="ANShape"/>
            <p:cNvSpPr/>
            <p:nvPr/>
          </p:nvSpPr>
          <p:spPr>
            <a:xfrm>
              <a:off x="3778200" y="5524560"/>
              <a:ext cx="1587600" cy="952560"/>
            </a:xfrm>
            <a:prstGeom prst="wedgeEllipseCallout">
              <a:avLst>
                <a:gd name="adj1" fmla="val -43750"/>
                <a:gd name="adj2" fmla="val 70000"/>
              </a:avLst>
            </a:prstGeom>
            <a:solidFill>
              <a:srgbClr val="bbe0e3">
                <a:alpha val="50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ANText"/>
            <p:cNvSpPr/>
            <p:nvPr/>
          </p:nvSpPr>
          <p:spPr>
            <a:xfrm>
              <a:off x="3809880" y="5524560"/>
              <a:ext cx="1524240" cy="95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Impact"/>
                </a:rPr>
                <a:t>Answer Now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day’s Agen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69800" y="1600200"/>
            <a:ext cx="75452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rm-Up: Project Ques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sswork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on Graph Re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t Wheelin’ La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mework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tance-Time Graphs Workshe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does a position-time graph tell you about an object’s mo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Student Objective</a:t>
            </a:r>
            <a:br>
              <a:rPr sz="4800"/>
            </a:br>
            <a:fld id="{618BC3B6-34F2-4FAE-A26C-61B02ED7D6D0}" type="datetime2">
              <a:rPr b="1" lang="en-US" sz="2800" spc="-1" strike="noStrike">
                <a:solidFill>
                  <a:srgbClr val="000000"/>
                </a:solidFill>
                <a:latin typeface="Arial"/>
              </a:rPr>
              <a:t>Thursday, July 30, 2026</a:t>
            </a:fld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316640" cy="50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udents will be able to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e, describe, and compare the motions of objects using position, speed, and the dire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d on data given or collected, graph and calculate average speed using distance and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Key Question 19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do position-time graphs tell you about motio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ease select a Team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52600" indent="-55260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m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m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m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m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m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AnswerNow"/>
          <p:cNvGrpSpPr/>
          <p:nvPr/>
        </p:nvGrpSpPr>
        <p:grpSpPr>
          <a:xfrm>
            <a:off x="3460680" y="6286680"/>
            <a:ext cx="2222640" cy="444240"/>
            <a:chOff x="3460680" y="6286680"/>
            <a:chExt cx="2222640" cy="444240"/>
          </a:xfrm>
        </p:grpSpPr>
        <p:sp>
          <p:nvSpPr>
            <p:cNvPr id="69" name="ANShape"/>
            <p:cNvSpPr/>
            <p:nvPr/>
          </p:nvSpPr>
          <p:spPr>
            <a:xfrm>
              <a:off x="3460680" y="6286680"/>
              <a:ext cx="2222640" cy="4442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0000">
                    <a:alpha val="50196"/>
                  </a:srgbClr>
                </a:gs>
                <a:gs pos="100000">
                  <a:srgbClr val="8c3d91"/>
                </a:gs>
              </a:gsLst>
              <a:lin ang="5400000"/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ANText"/>
            <p:cNvSpPr/>
            <p:nvPr/>
          </p:nvSpPr>
          <p:spPr>
            <a:xfrm>
              <a:off x="3460680" y="6286680"/>
              <a:ext cx="222264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??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graph shows an object that is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ving with a constant speed forw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ving with a constant speed backw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 mov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eding 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5029200" y="1676520"/>
            <a:ext cx="3882240" cy="3569040"/>
            <a:chOff x="5029200" y="1676520"/>
            <a:chExt cx="3882240" cy="3569040"/>
          </a:xfrm>
        </p:grpSpPr>
        <p:sp>
          <p:nvSpPr>
            <p:cNvPr id="74" name=""/>
            <p:cNvSpPr/>
            <p:nvPr/>
          </p:nvSpPr>
          <p:spPr>
            <a:xfrm>
              <a:off x="5589720" y="1676520"/>
              <a:ext cx="0" cy="34372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5131080" y="4884480"/>
              <a:ext cx="378036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048000" y="4877280"/>
              <a:ext cx="2290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 (s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068720" y="3013200"/>
              <a:ext cx="2289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istance (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 flipV="1">
            <a:off x="5622840" y="2209320"/>
            <a:ext cx="2819520" cy="266724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" name="TPChart"/>
          <p:cNvGraphicFramePr/>
          <p:nvPr/>
        </p:nvGraphicFramePr>
        <p:xfrm>
          <a:off x="4495680" y="1650960"/>
          <a:ext cx="449604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95680" y="1650960"/>
                    <a:ext cx="449604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81" name="AnswerNow"/>
          <p:cNvGrpSpPr/>
          <p:nvPr/>
        </p:nvGrpSpPr>
        <p:grpSpPr>
          <a:xfrm>
            <a:off x="2044800" y="6286680"/>
            <a:ext cx="2222280" cy="444240"/>
            <a:chOff x="2044800" y="6286680"/>
            <a:chExt cx="2222280" cy="444240"/>
          </a:xfrm>
        </p:grpSpPr>
        <p:sp>
          <p:nvSpPr>
            <p:cNvPr id="82" name="ANShape"/>
            <p:cNvSpPr/>
            <p:nvPr/>
          </p:nvSpPr>
          <p:spPr>
            <a:xfrm>
              <a:off x="2044800" y="6286680"/>
              <a:ext cx="2222280" cy="4442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0000">
                    <a:alpha val="50196"/>
                  </a:srgbClr>
                </a:gs>
                <a:gs pos="100000">
                  <a:srgbClr val="8c3d91"/>
                </a:gs>
              </a:gsLst>
              <a:lin ang="5400000"/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ANText"/>
            <p:cNvSpPr/>
            <p:nvPr/>
          </p:nvSpPr>
          <p:spPr>
            <a:xfrm>
              <a:off x="2044800" y="6286680"/>
              <a:ext cx="222228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??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graph shows an object that is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ving with a constant speed forw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ving with a constant speed backw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 mov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eding 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4952880" y="1828800"/>
            <a:ext cx="3882960" cy="3569040"/>
            <a:chOff x="4952880" y="1828800"/>
            <a:chExt cx="3882960" cy="3569040"/>
          </a:xfrm>
        </p:grpSpPr>
        <p:sp>
          <p:nvSpPr>
            <p:cNvPr id="87" name=""/>
            <p:cNvSpPr/>
            <p:nvPr/>
          </p:nvSpPr>
          <p:spPr>
            <a:xfrm>
              <a:off x="5513400" y="1828800"/>
              <a:ext cx="0" cy="34372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>
              <a:off x="5055120" y="5036760"/>
              <a:ext cx="378072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72040" y="5029560"/>
              <a:ext cx="2291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 (s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 rot="16200000">
              <a:off x="3992400" y="3165480"/>
              <a:ext cx="2289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istance (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"/>
          <p:cNvSpPr/>
          <p:nvPr/>
        </p:nvSpPr>
        <p:spPr>
          <a:xfrm>
            <a:off x="5499000" y="4038480"/>
            <a:ext cx="297180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4" name="AnswerNow"/>
          <p:cNvGrpSpPr/>
          <p:nvPr/>
        </p:nvGrpSpPr>
        <p:grpSpPr>
          <a:xfrm>
            <a:off x="2133720" y="6286680"/>
            <a:ext cx="2222280" cy="444240"/>
            <a:chOff x="2133720" y="6286680"/>
            <a:chExt cx="2222280" cy="444240"/>
          </a:xfrm>
        </p:grpSpPr>
        <p:sp>
          <p:nvSpPr>
            <p:cNvPr id="95" name="ANShape"/>
            <p:cNvSpPr/>
            <p:nvPr/>
          </p:nvSpPr>
          <p:spPr>
            <a:xfrm>
              <a:off x="2133720" y="6286680"/>
              <a:ext cx="2222280" cy="4442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0000">
                    <a:alpha val="50196"/>
                  </a:srgbClr>
                </a:gs>
                <a:gs pos="100000">
                  <a:srgbClr val="8c3d91"/>
                </a:gs>
              </a:gsLst>
              <a:lin ang="5400000"/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ANText"/>
            <p:cNvSpPr/>
            <p:nvPr/>
          </p:nvSpPr>
          <p:spPr>
            <a:xfrm>
              <a:off x="2133720" y="6286680"/>
              <a:ext cx="222228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??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graph shows an object that is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ves forward quickly, speeds up, then backwards and then sto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eeding up, stopping, slowing down and then stopp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ving forward, stopping, moving forward less quickly, and then moving backwa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eeding up, moving at constant speed, speeding up, and then slowing dow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4952880" y="1828800"/>
            <a:ext cx="3882960" cy="3569040"/>
            <a:chOff x="4952880" y="1828800"/>
            <a:chExt cx="3882960" cy="3569040"/>
          </a:xfrm>
        </p:grpSpPr>
        <p:sp>
          <p:nvSpPr>
            <p:cNvPr id="100" name=""/>
            <p:cNvSpPr/>
            <p:nvPr/>
          </p:nvSpPr>
          <p:spPr>
            <a:xfrm>
              <a:off x="5513400" y="1828800"/>
              <a:ext cx="0" cy="34372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>
              <a:off x="5055120" y="5036760"/>
              <a:ext cx="378072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972040" y="5029560"/>
              <a:ext cx="2291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 (s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 rot="16200000">
              <a:off x="3992400" y="3165480"/>
              <a:ext cx="2289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istance (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"/>
          <p:cNvSpPr/>
          <p:nvPr/>
        </p:nvSpPr>
        <p:spPr>
          <a:xfrm flipV="1">
            <a:off x="5546880" y="4191120"/>
            <a:ext cx="549000" cy="83808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095880" y="4191120"/>
            <a:ext cx="83844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6918480" y="3809520"/>
            <a:ext cx="853920" cy="38124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 flipV="1">
            <a:off x="7734240" y="3809880"/>
            <a:ext cx="876240" cy="45720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10" name="AnswerNow"/>
          <p:cNvGrpSpPr/>
          <p:nvPr/>
        </p:nvGrpSpPr>
        <p:grpSpPr>
          <a:xfrm>
            <a:off x="2044800" y="6286680"/>
            <a:ext cx="2222280" cy="444240"/>
            <a:chOff x="2044800" y="6286680"/>
            <a:chExt cx="2222280" cy="444240"/>
          </a:xfrm>
        </p:grpSpPr>
        <p:sp>
          <p:nvSpPr>
            <p:cNvPr id="111" name="ANShape"/>
            <p:cNvSpPr/>
            <p:nvPr/>
          </p:nvSpPr>
          <p:spPr>
            <a:xfrm>
              <a:off x="2044800" y="6286680"/>
              <a:ext cx="2222280" cy="4442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0000">
                    <a:alpha val="50196"/>
                  </a:srgbClr>
                </a:gs>
                <a:gs pos="100000">
                  <a:srgbClr val="8c3d91"/>
                </a:gs>
              </a:gsLst>
              <a:lin ang="5400000"/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ANText"/>
            <p:cNvSpPr/>
            <p:nvPr/>
          </p:nvSpPr>
          <p:spPr>
            <a:xfrm>
              <a:off x="2044800" y="6286680"/>
              <a:ext cx="222228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??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am Sco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127080" y="1666800"/>
          <a:ext cx="8889840" cy="4556160"/>
        </p:xfrm>
        <a:graphic>
          <a:graphicData uri="http://schemas.openxmlformats.org/drawingml/2006/table">
            <a:tbl>
              <a:tblPr/>
              <a:tblGrid>
                <a:gridCol w="1269720"/>
                <a:gridCol w="3175200"/>
                <a:gridCol w="1269720"/>
                <a:gridCol w="31752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18:24:50Z</dcterms:created>
  <dc:creator>krmihal</dc:creator>
  <dc:description/>
  <dc:language>en-US</dc:language>
  <cp:lastModifiedBy>krmihal</cp:lastModifiedBy>
  <dcterms:modified xsi:type="dcterms:W3CDTF">2010-05-04T18:25:07Z</dcterms:modified>
  <cp:revision>1</cp:revision>
  <dc:subject/>
  <dc:title>Slide 1</dc:title>
</cp:coreProperties>
</file>